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4AB1-E8AD-4E3D-926F-E3CF01DA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FD3F-B97D-403D-8D2A-4D38B87A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1C6-7D8E-44BD-B08B-2F8C58B5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300-91C4-422D-904F-87091DD0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B76-F9FA-45EF-8C5A-0CB5C1C5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632B-EC5A-4077-BD10-A3BEEC65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2AA6-A124-4C5E-821C-50F726E1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FA94-7728-428D-8DD6-B3A483E0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8405-BEDD-424C-A188-E260E192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3037-95C5-48CB-ABD2-980540D4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3AD-AC68-4614-84F7-6AABA710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F4C-EA90-416E-9E56-E2014A1F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E212-8D4D-4A6C-A72D-F95A8F0F7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01680" y="1508040"/>
            <a:ext cx="85471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5491080"/>
            <a:ext cx="85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ح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786880" cy="181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216000" y="3979800"/>
            <a:ext cx="8748720" cy="132084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708280"/>
            <a:ext cx="85690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كون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تلو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ولا تعملون : محمد صلى الله عليه وسلم وأم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82600" y="1671480"/>
            <a:ext cx="85694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عل ما أمر الله  ويترك ما نهى عن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73576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3213000"/>
            <a:ext cx="81360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3632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108000" y="938160"/>
            <a:ext cx="88995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39760" y="1685880"/>
            <a:ext cx="8717040" cy="498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907920"/>
            <a:ext cx="9132840" cy="6177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941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قب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21200" y="94140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م الله الشام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29264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ما تكون يا محمد في أ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511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زن نملة 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6159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الشامل وإحاطت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جميع أعمال العبا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حصاة عل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م الله السابق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ذي دون الله فيه علم كل شيء قبل وقوع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أولياء الله 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ون المتق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79736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جهلة المسلمين الذين غلوا في الأولياء فجعلوا لهم أوصافاً لا قدرة للبشر عليها مث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ع والضر وعلم الغي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558972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كتساب ولاية الله ت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فعل الأوامر واجتناب النواه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60991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كرام الله ل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عجيل البشارة لهم في الدنيا بثناء المؤمنين وبشارة الملائكة لهم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راقبة الله الدائمة والبعد عن ما حرم الله وفعل كل ما أوجب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169920" y="981000"/>
            <a:ext cx="88516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24000" y="984240"/>
            <a:ext cx="8584920" cy="561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4716360" y="292428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324000" y="292428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4716360" y="443700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عل الأوا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324000" y="443700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 النواه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4716360" y="5950080"/>
            <a:ext cx="345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5950080"/>
            <a:ext cx="3166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7:00:23Z</dcterms:modified>
  <cp:revision>1981</cp:revision>
  <dc:subject/>
  <dc:title>عرض تقديمي في PowerPoint</dc:title>
</cp:coreProperties>
</file>